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2E5-8A9A-4481-9DEC-D19E57E9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9D5-C182-4821-9F7A-4D616CDD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42A-F1A2-4869-ACF7-6388F2E6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279-4FBF-4DAA-BE11-D2103F6C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367-A898-4F4B-8BCE-1971F51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EB8-C40A-4D59-A4D9-BC549E0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0C5-EBEA-4145-8024-4F98AAE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271-50FD-4CDE-B0A3-BA48A29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EBC-B5BB-4686-9BDA-AE62202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64A-A8F2-43A5-A0D1-2CCBDDD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F08-4B7F-415D-BCA7-A6A28BB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AF6-2B9D-46D2-8AE1-5F2E7ED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A410-B091-44FF-97F2-8AD718A8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Univer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Austin 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533520"/>
            <a:ext cx="4819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ow Planets Diff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8120" y="380880"/>
            <a:ext cx="35719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ght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380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ife Cycle 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81080" y="533520"/>
            <a:ext cx="5181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stell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304920"/>
            <a:ext cx="395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S FOR 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is an average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f the Suns core is about 15,000,000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 keeps Earth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05320" y="2286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8120" y="228600"/>
            <a:ext cx="243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7400" y="533520"/>
            <a:ext cx="5334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as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800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362320" y="609480"/>
            <a:ext cx="411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y and N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68580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lar Eclip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609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lax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114800" y="152280"/>
            <a:ext cx="3886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lax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80060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23880" y="228600"/>
            <a:ext cx="5486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teroids and Come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10160" y="1676520"/>
            <a:ext cx="4533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32:12Z</dcterms:created>
  <dc:creator> </dc:creator>
  <dc:description/>
  <dc:language>en-US</dc:language>
  <cp:lastModifiedBy>Franklin Township School</cp:lastModifiedBy>
  <dcterms:modified xsi:type="dcterms:W3CDTF">2012-03-20T17:33:59Z</dcterms:modified>
  <cp:revision>6</cp:revision>
  <dc:subject/>
  <dc:title>Universe </dc:title>
</cp:coreProperties>
</file>